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453-E131-4015-8594-1970BEE7B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105D-25A2-450B-A552-76B71C809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2880-99D8-4893-8B53-7BDF28E55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876-656C-4617-B0A4-C0D7E60E45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0F1D-C708-4E74-82EE-A20F47556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53D1-9E19-4ED8-94E1-A9728114B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8648-67B2-4852-876B-F088B01DE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8F36-CD99-43C3-80F0-899A9F7E2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B3B-123C-4993-A8CE-E2BB6BCB9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7283-BD29-4EE9-9B3D-0DC1A3C6A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DCC0-0561-4214-8637-66759E91D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E7D6-B300-4C0B-804A-8067494C4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E284-6E15-4E04-B491-6A0AE296C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747-90D0-41C4-B016-F38CAA8BE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A4A4-8159-403B-8292-E4E54AEA7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1787-653A-4C63-8A18-4ECB6FD97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2889-A7B9-4FED-8A4C-D784A78B4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CCB-405A-4C05-AAD8-B1B09D20F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1AF7-55E3-47E4-A060-16B39FC99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1F40-557B-4CF7-9AF7-9DC4B639A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721A-185C-49C0-BA86-8877B2107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804A-36DF-426B-BD64-74F05B839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DD38-6C48-48E5-8597-BC8447B28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38B-6BA6-42E9-A197-A2A05E13F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4180-0DF2-494C-B7BB-F90BB6367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5CA5-3E5B-47ED-A5DF-EC9A029FA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F69-5642-4415-B8C7-22AB93B69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66CA-CBA7-4CA8-A02C-D61E03BF9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8684-AAAB-4E89-B229-A1BC6D9C3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F211-2D53-4F54-A13A-05DB4304B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69E-DE81-444A-B0AB-0257B6DB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C38-159A-4F1D-A3F8-8ED9CCBA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42C-1B38-4290-B8B1-D7300B0B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6EA-44F7-4ED6-84BB-22823F40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EFF-6689-4231-BDE9-2DE5FC8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D21-B2AB-4ABA-848E-39ED9503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B9C-0FCA-464C-9C5C-FCB0B047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F13-6502-4ECE-97D4-D62E07ED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6E4-031A-4AA1-82E5-A5240960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DBB-ECDC-469B-9893-2726084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CF8-7FEC-4794-99E7-8320DE5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2A0-DABF-42F1-B015-5AA4A387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AC04-831C-4E2A-9E57-8F152E3C20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 Dyshuar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ta elektronike nuk dërgohet direkt nga një person tek një tjetë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ë dhënat e ruajtjes dhe përcjelljes së një mesazhi të caktuar të postës elektronike janë të lidhura me atë mesaz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Çdo person ka një server të postës në dalje dhe posta elektronike dërgohet siç tregohet në slajdin pa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zhi elektronik nuk dërgohet direkt nga një person tek një tjetë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do person ka një server të postës në dalje dhe në hyrje dhe mesazhi elektronik dërgohet dhe mbërrin siç tregohet në slajdin pa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2362320" y="434340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Kur Alisa klikon butonin SEND, mesazhi elektronik i saj zhvendoset nga kompjuteri i saj tek serveri i postës në dalje të Kompanisë Shërbimofruese e Internetit (I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ë pas, ISP-ja e Alisës e përcjell mesazhin elektronik nëpërmjet Interne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esazhi përcillet në serverin e postës në hyrje (POP3) të ISP së Bo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219640" y="4572000"/>
            <a:ext cx="186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erën tjetër që Bobi lidhet me ISP e tij, mesazhi elektronik i shkarkohet në kompjuerin e t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E06-C096-4483-880E-50EE0B924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mesazh elektronik përbëhet nga dy pjes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eu: përmban të dhëna se kush e dërgon mesazhin, për kë është, lëndën, datën, et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e sesi është ruajtur/përcjellë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pi: përmbajtja konkrete e mesazhit elektron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ë slajdin tjetër tregohet shembulli i një mesazhi me kre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ë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ë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ë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ë Dhënat e Shërbimofruesve Ndërkombë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ërbimofruesit Ndër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Facebook, Goog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jenë në gjendje t’ju thonë se cila adresë IP u përdor nga një abonent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dini Identifikimi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imin e përdoruesit t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Facebook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të dyshuari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rkohet zakonisht bashkëpunimi ndër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knikat e Hetimit të Masku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ëse tashm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eni një të dyshuar, teknikat e fshehta të hetimit (p.sh. përgjimi) mund të përdoren për të identifikuar adresë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t)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përd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nga i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DHJA E ADRESËS IP ME IDENTITETIN NË JETËN RE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930040"/>
            <a:ext cx="77724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LA ËSHTË ADRESA IME I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mund të lejojë identifikimin 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mpanisë Shërbimofruese të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ndodhjen gjeograf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freskim: Mësoni se ç’është një adresë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i të gjeni adresën IP të të dyshuar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e si të bëni lidhjen ndërmjet adresës IP të një të dyshuari dhe personit r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ditni tre sfida teknike për identifikimin e të dyshuarve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-të i mbajnë zakonisht të dhënat e abonentit që po përdorte një adresë IP të caktuar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gjatë mbahen kë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i mund të merr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to të dhëna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Çfarë përfshihet në marrjen e të dhënave t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nentëv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ë ISP-s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të zbuloni se cilës ISP t’i kërkoni të dhëna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dndodhja gjeografik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ga mendoni se vijnë të dhënat e vendndodhjes gjeograf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k ka absolutisht asnjë garanci besueshmëri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, jo gjithmonë të çojnë tek një person i caktu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sat IP Statike vs. Dinam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ërkthimi i Adresës së Rrjetit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a e aktivitetit është e rëndësish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pora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rporatat që përdorin Përkthimin e Adresës s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(NAT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kenë të dhëna që mundësojnë lidhjen ndërmjet aktivitetit të të dyshuarit me një adrese IP të brendshme specifik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si do të realizohet angazhimi me kompaninë do të varet nga legjislacioni 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rrallë ekzistojn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he sikur të gjeni kompjuteri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sh po e përdorte at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l i largët i kompjuter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ë aksesi WiF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im i VPN-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A SFIDA TEKNIKE TË TJ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fi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 të ndodhë një ngatërresë e qëllimshme apo e paqëllimshme, ligjshme apo e paligjshm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ë diskutojmë disa shembu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e anonimiz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në në dispozicion 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 dyja shërbime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 pagesë 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dhe fala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r të fshehur aktivitetin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 rrjeti anonimizues e fshehin specifikisht burimin e aktivitetit të navigimit në rrj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ërbimofruesit anonimizues të postës elektronike e fshehin dërguesin e mesazhit elektronik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t IP anonimizues i fshehin të gjitha burimet  e trafikut në Intern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mbull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: 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përbëhet nga katër numra ndërmjet 0 dhe 255, të ndarë me pik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 edhe një formë të re të adresave IP (versioni 6) që nuk do të diskutohet kë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p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e mundur që komunikimi të kriptohe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e e gjithë përmbajtja e të gjitha komunikimit mund të jetë e krip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jë teknikë pë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dhj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 një numri shumë të mad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uesish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e një adresë të vetme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Përdorur zakonisht për lidhjen në interne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rrje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 t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telefonisë celul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dresat IP janë identifiku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nevoj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, por j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mjaftue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aktivitetit online të një person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Lidhja e një adrese IP me një person real është shumë e vështirë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 t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eknologj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bërë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dhe më të vështir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gjurmimin e një personi në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Kudo që është e mundur, duhet të përdoren burime të tje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ash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ë mbështetur provat e adresës I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610440" y="4508640"/>
            <a:ext cx="192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 adresa IP nuk janë të vlefshme në Internet, për vetëm për përdorim (të brendshëm) priv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IKIMI I ADRESËS IP TË TË DYSHUAR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tiviteti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iteti online i një përdoruesi mund të prodhojë të dhë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ëto të dhëna mund të përmbajnë adresën IP të komunikimeve të përdorues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mund të jetë një pjesë e rëndësishme e informacionit për identifikimin e një të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 nevojshme por jo e mjaftuesh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ktiviteti i navigimit në rrjeti është dërgimi i kërkesave nga një përdorues tek një server rrjeti, dhe kthimi i përgjigjeve nga serveri i rrjetit tek përdorues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mati i kërkesave dhe përgjigjeve përshkruhet me anë të përdorimit të një protokolli të njohur si Protokolli i Transferimit të Hipertekstit (HTTP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akonisht, një server rrjeti regjistron të gjitha kërkesat në ardhje, duke përfshirë adresën IP nga e cila u dërgua kërke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640"/>
            <a:ext cx="8229600" cy="44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1:54Z</dcterms:modified>
  <cp:revision>305</cp:revision>
  <dc:subject/>
  <dc:title>PowerPoint Presentation</dc:title>
</cp:coreProperties>
</file>